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4.gif" ContentType="image/gif"/>
  <Override PartName="/ppt/media/image13.png" ContentType="image/png"/>
  <Override PartName="/ppt/media/image1.jpeg" ContentType="image/jpeg"/>
  <Override PartName="/ppt/media/CAMERA.WAV" ContentType="audio/x-wav"/>
  <Override PartName="/ppt/media/image6.jpeg" ContentType="image/jpeg"/>
  <Override PartName="/ppt/media/image10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9.png" ContentType="image/png"/>
  <Override PartName="/ppt/media/image8.png" ContentType="image/png"/>
  <Override PartName="/ppt/media/image5.gif" ContentType="image/gif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FF57-AB60-4054-B9F7-AFA1F78F2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DF2E-BE3C-4D87-BD24-D695D34F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ADD4-D50F-4EE2-8DE4-DB73E443E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A0ED-EFFB-4658-B9FF-DD03B568B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E06A-D8CD-42BB-9803-30D1D074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7C52-65F5-4AB9-968D-EA18DB65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5E3B-A339-4B2B-957A-E973A24C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2092-1B11-4E16-901A-ED3C14D4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C9D3-2BCE-4D39-AE21-0B84E3F8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644E-7B4B-4F3A-BADA-6B5BE042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827F-B94A-49F0-8E57-23B92086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D3A9-F4E4-4AA6-87AD-FA6E152F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5B45-7E9D-4D30-872A-1A5CD82B5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097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1752480"/>
            <a:ext cx="9144000" cy="1809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3200400"/>
            <a:ext cx="9144000" cy="18288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74880" y="6289560"/>
            <a:ext cx="23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22280" y="6389640"/>
            <a:ext cx="184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Script MT Bold"/>
              </a:rPr>
              <a:t>Physics I Hon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Script MT Bold"/>
              </a:rPr>
              <a:t>Waves and Sou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n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ppler E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12B7-D08C-428C-B65E-24D2658921B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Human Perception of S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0666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743200" y="990720"/>
            <a:ext cx="4294080" cy="560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8C67-24CF-476E-BD96-2372BB0C46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Sound Inter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apping compressions of a sound wave will result in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ive interfer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a louder sou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apping a compression and a rarefaction results in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ructive interfer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a softer sou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2AD6-10A1-45AE-B5E8-0D3A495C8A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The Compression W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2943" t="0" r="7842" b="0"/>
          <a:stretch/>
        </p:blipFill>
        <p:spPr>
          <a:xfrm>
            <a:off x="914400" y="2765520"/>
            <a:ext cx="7848720" cy="227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4E87-3573-42F0-ACB1-B5321E0397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The Doppler Ef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8380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The observed frequency of sound changes if there is relative motion between the the observer and the source of the sound wav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Example:  If a train is moving away from you, the pitch of the whistle is lower than when it comes toward yo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914400" y="4343400"/>
                <a:ext cx="2627280" cy="12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±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v</m:t>
                            </m:r>
                            <m:r>
                              <m:t xml:space="preserve">∓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5486400" y="3809880"/>
            <a:ext cx="3429000" cy="18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’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observed frequency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mitted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observer spee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sourc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wav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5943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means that the source is mov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w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the 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327672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means that the observer is mov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wa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the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743200" y="5562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3200" y="41148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010280" y="1066680"/>
            <a:ext cx="1766880" cy="1549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C5E6-0AD8-42CF-970A-DFF7FE7EB0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onary Source and Ob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9528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791320" y="4267080"/>
            <a:ext cx="488880" cy="685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295280" y="4221000"/>
            <a:ext cx="1067040" cy="703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295280" y="4038480"/>
            <a:ext cx="1067040" cy="1067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92000" y="3600360"/>
            <a:ext cx="20718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2200" y="3090960"/>
            <a:ext cx="3011400" cy="2962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195120" y="2581200"/>
            <a:ext cx="4047840" cy="398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666720" y="2117880"/>
            <a:ext cx="4989600" cy="4908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1136520" y="1562040"/>
            <a:ext cx="5929200" cy="6019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-1654200" y="1100160"/>
            <a:ext cx="6964560" cy="6943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-2171880" y="636480"/>
            <a:ext cx="8001360" cy="7871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3657600"/>
            <a:ext cx="167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248520" y="3505320"/>
            <a:ext cx="2209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75480" y="1560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86200" y="43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00760" y="369396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=340m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48520" y="1523880"/>
            <a:ext cx="16002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192E-DDDD-4B65-88CF-CC13F4985AFA}" type="slidenum">
              <a:t>14</a:t>
            </a:fld>
          </a:p>
        </p:txBody>
      </p:sp>
    </p:spTree>
  </p:cSld>
  <p:transition>
    <p:fade thruBlk="true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 and Observer Moving Toge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352680" y="4267080"/>
            <a:ext cx="1067040" cy="703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162920" y="4191120"/>
            <a:ext cx="488880" cy="685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066680" y="4952880"/>
            <a:ext cx="685800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962520" y="4267080"/>
            <a:ext cx="1066680" cy="703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572000" y="4267080"/>
            <a:ext cx="1066680" cy="703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62120" y="1752480"/>
            <a:ext cx="6476760" cy="5105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2286000"/>
            <a:ext cx="5867640" cy="4038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2514600"/>
            <a:ext cx="5334120" cy="358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38480" y="4952880"/>
            <a:ext cx="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4952880"/>
            <a:ext cx="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4120" y="4952880"/>
            <a:ext cx="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219320"/>
            <a:ext cx="2819520" cy="5638680"/>
          </a:xfrm>
          <a:prstGeom prst="rect">
            <a:avLst/>
          </a:prstGeom>
          <a:solidFill>
            <a:srgbClr val="ffe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3276720"/>
            <a:ext cx="2057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&gt; 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6B50-B887-4C09-B452-3533D516B5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5" dur="1" fill="hold">
                                    <p:stCondLst>
                                      <p:cond evt="end">
                                        <p:tn val="161"/>
                                      </p:cond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2" dur="1" fill="hold">
                                    <p:stCondLst>
                                      <p:cond evt="end">
                                        <p:tn val="178"/>
                                      </p:cond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 and Observer Moving Ap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352680" y="4267080"/>
            <a:ext cx="1067040" cy="703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489240" cy="685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066680" y="4952880"/>
            <a:ext cx="685800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114800" y="4267080"/>
            <a:ext cx="1066680" cy="703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4800600" y="4267080"/>
            <a:ext cx="1066680" cy="7034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676520" y="1752480"/>
            <a:ext cx="6933960" cy="5105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43200" y="2286000"/>
            <a:ext cx="5486400" cy="4038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91120" y="2514600"/>
            <a:ext cx="4114800" cy="358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4952880"/>
            <a:ext cx="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4952880"/>
            <a:ext cx="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62720" y="4952880"/>
            <a:ext cx="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1676520"/>
            <a:ext cx="2819520" cy="5181480"/>
          </a:xfrm>
          <a:prstGeom prst="rect">
            <a:avLst/>
          </a:prstGeom>
          <a:solidFill>
            <a:srgbClr val="ffe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00800" y="5562720"/>
            <a:ext cx="2057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&lt; 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D19C-0D82-4810-9241-1DB06FD7A9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4" dur="1" fill="hold">
                                    <p:stCondLst>
                                      <p:cond evt="end">
                                        <p:tn val="230"/>
                                      </p:cond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1" dur="1" fill="hold">
                                    <p:stCondLst>
                                      <p:cond evt="end">
                                        <p:tn val="247"/>
                                      </p:cond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The Doppler Ef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source and/or detector are moving towa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ach oth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ance between waves decr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equency seems to in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source and/or detector are moving awa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each oth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ance between waves incr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equency seems to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971800" y="5334120"/>
            <a:ext cx="1066680" cy="703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324480" y="5334120"/>
            <a:ext cx="489240" cy="6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0BA6-6A24-4CC5-A107-F873A5F2C0D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9980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ppl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031760"/>
            <a:ext cx="8153280" cy="37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 are driving along the highway at 65 mph, and behind you a police car, also traveling at 65 mph, has its siren turn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 and the police car have both pulled over to the side of the road, but the siren is still turn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which case does the frequency of the siren seem higher to you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1. Case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2. Case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.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200400" y="3886200"/>
            <a:ext cx="4418280" cy="2265120"/>
            <a:chOff x="3200400" y="3886200"/>
            <a:chExt cx="4418280" cy="2265120"/>
          </a:xfrm>
        </p:grpSpPr>
        <p:grpSp>
          <p:nvGrpSpPr>
            <p:cNvPr id="135" name=""/>
            <p:cNvGrpSpPr/>
            <p:nvPr/>
          </p:nvGrpSpPr>
          <p:grpSpPr>
            <a:xfrm>
              <a:off x="3200400" y="3886200"/>
              <a:ext cx="4418280" cy="2265120"/>
              <a:chOff x="3200400" y="3886200"/>
              <a:chExt cx="4418280" cy="2265120"/>
            </a:xfrm>
          </p:grpSpPr>
          <p:grpSp>
            <p:nvGrpSpPr>
              <p:cNvPr id="136" name=""/>
              <p:cNvGrpSpPr/>
              <p:nvPr/>
            </p:nvGrpSpPr>
            <p:grpSpPr>
              <a:xfrm>
                <a:off x="3200400" y="3886200"/>
                <a:ext cx="1384920" cy="2265120"/>
                <a:chOff x="3200400" y="3886200"/>
                <a:chExt cx="1384920" cy="226512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3286440" y="5198760"/>
                  <a:ext cx="173520" cy="21852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806280" y="5198760"/>
                  <a:ext cx="173520" cy="21852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3286440" y="4979520"/>
                  <a:ext cx="693360" cy="218520"/>
                </a:xfrm>
                <a:custGeom>
                  <a:avLst/>
                  <a:gdLst>
                    <a:gd name="textAreaLeft" fmla="*/ 102240 w 693360"/>
                    <a:gd name="textAreaRight" fmla="*/ 591120 w 693360"/>
                    <a:gd name="textAreaTop" fmla="*/ 32040 h 218520"/>
                    <a:gd name="textAreaBottom" fmla="*/ 186480 h 218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013" y="21600"/>
                      </a:lnTo>
                      <a:lnTo>
                        <a:pt x="2587" y="2160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459960" y="4761000"/>
                  <a:ext cx="86040" cy="109440"/>
                </a:xfrm>
                <a:prstGeom prst="ellipse">
                  <a:avLst/>
                </a:prstGeom>
                <a:solidFill>
                  <a:srgbClr val="ff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200400" y="5745600"/>
                  <a:ext cx="1125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459960" y="5745600"/>
                  <a:ext cx="7794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v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3373200" y="4870440"/>
                  <a:ext cx="432720" cy="109440"/>
                </a:xfrm>
                <a:custGeom>
                  <a:avLst/>
                  <a:gdLst>
                    <a:gd name="textAreaLeft" fmla="*/ 63720 w 432720"/>
                    <a:gd name="textAreaRight" fmla="*/ 369000 w 432720"/>
                    <a:gd name="textAreaTop" fmla="*/ 16200 h 109440"/>
                    <a:gd name="textAreaBottom" fmla="*/ 93240 h 10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013" y="21600"/>
                      </a:lnTo>
                      <a:lnTo>
                        <a:pt x="2587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633120" y="4761000"/>
                  <a:ext cx="86760" cy="109440"/>
                </a:xfrm>
                <a:prstGeom prst="ellipse">
                  <a:avLst/>
                </a:prstGeom>
                <a:solidFill>
                  <a:srgbClr val="ff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153680" y="4500720"/>
                  <a:ext cx="171720" cy="780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76" y="1163"/>
                      </a:moveTo>
                      <a:arcTo wR="10800" hR="10800" stAng="-3789718" swAng="69176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76" y="1163"/>
                      </a:moveTo>
                      <a:arcTo wR="10800" hR="10800" stAng="-3789718" swAng="6917600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239360" y="4500720"/>
                  <a:ext cx="173160" cy="780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76" y="1163"/>
                      </a:moveTo>
                      <a:arcTo wR="10800" hR="10800" stAng="-3789718" swAng="69176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76" y="1163"/>
                      </a:moveTo>
                      <a:arcTo wR="10800" hR="10800" stAng="-3789718" swAng="6917600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326120" y="4500720"/>
                  <a:ext cx="173160" cy="780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76" y="1163"/>
                      </a:moveTo>
                      <a:arcTo wR="10800" hR="10800" stAng="-3789718" swAng="69176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76" y="1163"/>
                      </a:moveTo>
                      <a:arcTo wR="10800" hR="10800" stAng="-3789718" swAng="6917600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413600" y="4500720"/>
                  <a:ext cx="171720" cy="780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76" y="1163"/>
                      </a:moveTo>
                      <a:arcTo wR="10800" hR="10800" stAng="-3789718" swAng="69176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76" y="1163"/>
                      </a:moveTo>
                      <a:arcTo wR="10800" hR="10800" stAng="-3789718" swAng="6917600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240800" y="3886200"/>
                  <a:ext cx="244800" cy="34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6059520" y="3886200"/>
                <a:ext cx="1559160" cy="2265120"/>
                <a:chOff x="6059520" y="3886200"/>
                <a:chExt cx="1559160" cy="22651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6752520" y="5308200"/>
                  <a:ext cx="172800" cy="21852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099200" y="5308200"/>
                  <a:ext cx="172800" cy="21852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6665760" y="5089320"/>
                  <a:ext cx="693000" cy="218880"/>
                </a:xfrm>
                <a:custGeom>
                  <a:avLst/>
                  <a:gdLst>
                    <a:gd name="textAreaLeft" fmla="*/ 56160 w 693000"/>
                    <a:gd name="textAreaRight" fmla="*/ 636840 w 693000"/>
                    <a:gd name="textAreaTop" fmla="*/ 17640 h 218880"/>
                    <a:gd name="textAreaBottom" fmla="*/ 201240 h 218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16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6492600" y="5745600"/>
                  <a:ext cx="1126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752520" y="5745600"/>
                  <a:ext cx="7794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v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V="1">
                  <a:off x="6752520" y="4869720"/>
                  <a:ext cx="432720" cy="218520"/>
                </a:xfrm>
                <a:custGeom>
                  <a:avLst/>
                  <a:gdLst>
                    <a:gd name="textAreaLeft" fmla="*/ 63720 w 432720"/>
                    <a:gd name="textAreaRight" fmla="*/ 369000 w 432720"/>
                    <a:gd name="textAreaTop" fmla="*/ 32040 h 218520"/>
                    <a:gd name="textAreaBottom" fmla="*/ 186480 h 218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013" y="21600"/>
                      </a:lnTo>
                      <a:lnTo>
                        <a:pt x="2587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6059520" y="4500720"/>
                  <a:ext cx="173160" cy="780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76" y="1163"/>
                      </a:moveTo>
                      <a:arcTo wR="10800" hR="10800" stAng="-3789718" swAng="69176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76" y="1163"/>
                      </a:moveTo>
                      <a:arcTo wR="10800" hR="10800" stAng="-3789718" swAng="6917600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146280" y="4500720"/>
                  <a:ext cx="173160" cy="780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76" y="1163"/>
                      </a:moveTo>
                      <a:arcTo wR="10800" hR="10800" stAng="-3789718" swAng="69176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76" y="1163"/>
                      </a:moveTo>
                      <a:arcTo wR="10800" hR="10800" stAng="-3789718" swAng="6917600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233760" y="4500720"/>
                  <a:ext cx="171720" cy="780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76" y="1163"/>
                      </a:moveTo>
                      <a:arcTo wR="10800" hR="10800" stAng="-3789718" swAng="69176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76" y="1163"/>
                      </a:moveTo>
                      <a:arcTo wR="10800" hR="10800" stAng="-3789718" swAng="6917600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319080" y="4500720"/>
                  <a:ext cx="173160" cy="780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76" y="1163"/>
                      </a:moveTo>
                      <a:arcTo wR="10800" hR="10800" stAng="-3789718" swAng="69176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76" y="1163"/>
                      </a:moveTo>
                      <a:arcTo wR="10800" hR="10800" stAng="-3789718" swAng="6917600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146280" y="3886200"/>
                  <a:ext cx="541440" cy="34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f’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2" name=""/>
            <p:cNvSpPr/>
            <p:nvPr/>
          </p:nvSpPr>
          <p:spPr>
            <a:xfrm>
              <a:off x="4240080" y="4870800"/>
              <a:ext cx="51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46280" y="4870800"/>
              <a:ext cx="51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87480" y="4323960"/>
              <a:ext cx="2829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moving = how many combina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 le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 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 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 le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03A7-A830-4756-92CA-2C22446F10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ck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Radio station Kiss broadcasts at 104.5MH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avelength does this requi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Kinky Kyle watches waves go by his dock and notices that 12 crests pass the same spot every minute, and that the crests are 6 meters apart. What is the speed of these wav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157E-2CC4-4D99-87D4-1FEB36E417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Script MT Bold"/>
              </a:rPr>
              <a:t>Waves and Sou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o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1FD1-F355-4C9C-99AD-0D4BBB918A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Resonanc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result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rced vibr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a body when the applied frequency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matches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atural frequenc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bo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ing wave is established, the amplitudes adding together until the pressure is adequate for humans to he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sulting vibration has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igh amplitu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could destroy the body that is vibra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03A6-A2AF-47D3-8935-CD1FFC901CB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Natural Frequency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requency at which an elastic object naturally tends to vibrat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this frequency,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inimum energ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required to produce a forced vibra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atural frequency of a body depends on its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t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4059-CADA-4F68-9148-7BC4B295096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6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1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6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6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Standing W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94920" y="1904760"/>
            <a:ext cx="7162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distance between adjacent antinodes is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/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he distance between adjacent nodes is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/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distance between a node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adjacent antinode is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/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0E91-41D1-4EEF-89A3-3AAD17A60D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Examples of Resonan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s on a spring at reso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nging your legs in a s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king a wine glass using s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inging rod caused by forced vibr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uning fork exciting a guitar 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ruck driving on a rough r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40, the Tacoma Narrows Bridge was destroyed by wind-generated reson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9B6E-BF73-4DBC-84B0-116CA2149F2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Open Pipe Resonators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Fundam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antinodes and one 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2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 = ½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0" t="18999" r="0" b="0"/>
          <a:stretch/>
        </p:blipFill>
        <p:spPr>
          <a:xfrm>
            <a:off x="685800" y="3962520"/>
            <a:ext cx="7772400" cy="1590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F0A4-FFD4-409C-BE33-F68849B3B9E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Open Pipe Resonators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Second Harmo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52480" y="1752480"/>
            <a:ext cx="525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nodes and three antino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22216" r="0" b="0"/>
          <a:stretch/>
        </p:blipFill>
        <p:spPr>
          <a:xfrm>
            <a:off x="838080" y="4038480"/>
            <a:ext cx="76964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13DF-892C-4DF7-AED1-936D85A053C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Open Pipe Resonators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Third Harmo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52480" y="1752480"/>
            <a:ext cx="525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ree nodes and four antino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2L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 = 3/2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23085" r="0" b="0"/>
          <a:stretch/>
        </p:blipFill>
        <p:spPr>
          <a:xfrm>
            <a:off x="838080" y="4191120"/>
            <a:ext cx="7696440" cy="15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1147-BAC0-4D28-858A-83AB736FF28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Closed Pipe Resonators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Fundam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 node and one antinod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0" t="19266" r="0" b="0"/>
          <a:stretch/>
        </p:blipFill>
        <p:spPr>
          <a:xfrm>
            <a:off x="838080" y="3581280"/>
            <a:ext cx="762012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E010-32C0-4209-92B8-F247516BFD8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Closed Pipe Resonators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Third Harmo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 = 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19233" r="0" b="0"/>
          <a:stretch/>
        </p:blipFill>
        <p:spPr>
          <a:xfrm>
            <a:off x="838080" y="3733920"/>
            <a:ext cx="76964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24D5-6142-4445-B237-42896872E27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Given f = 104.5 MHz.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 waves are _______ waves so they travel at _________ m/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f and v, we find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using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D3CD-D7D9-4BE1-B912-582B6522F3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Closed Pipe Resonators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Fifth Harmo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 =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19222" r="0" b="0"/>
          <a:stretch/>
        </p:blipFill>
        <p:spPr>
          <a:xfrm>
            <a:off x="1066680" y="3505320"/>
            <a:ext cx="76964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181F-3411-4329-992E-40B21971865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Be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ves of slightly different frequencies form a pattern of alternating maximum and minimum amplitu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ackets of maximum amplitude are called bea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419720" y="1676520"/>
            <a:ext cx="4363920" cy="480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1C2A-EC5E-4485-A231-89C67641CA9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Be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two sound sources that have almost the same frequency are sounded together you hear a sound with a frequency that is the average of the tw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variation in the amplitude between these two sounds is called a be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beats frequency is simply the difference between the two frequenc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9285-AC92-4295-955C-468DE17B594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Be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ea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the periodic variation in loudness of two sounds played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mans can distinguish beat frequencies of seven or 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eat freque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equal to the difference in the frequency of the two sou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beat frequency when a 262 Hz and a 266 Hz tuning fork are sounded togeth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9989-1EFE-455E-BE70-B2EEA65FAD2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 = f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v/f = 3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104.5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2.87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CDA8-04BF-4E7E-9D6A-B9EA4BC6AE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wavelength is 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 is 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 =  f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=  12 /min = 0.2/s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= 0.2 x 6  = 1.2 m/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8430-9BFD-41BD-ADA2-459D936777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nd Wav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1141560"/>
            <a:ext cx="7623360" cy="571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5B9B-8A01-4C55-8728-55550A3EF0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S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23720" y="1014120"/>
            <a:ext cx="8229600" cy="55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e speed of sound in air is 343 m/s at standard temperature and pressure.  It increases with increasing tempera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e speed of sound in solids is greater than in gasses.  It is greater for stiffer materi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ound waves originate from vibrating objec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Audible: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20,000 H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Infrasonic: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 20 H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Ultrasonic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20 kH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pitch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 of a sound wave is determined by the frequency of the sou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5DED-D18B-4ECB-A174-ADA64F0BBC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Sound Intens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Sound waves carry energ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tensity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s defi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as the rate at which energy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flows through a unit are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perpendicular to the direction of travel of the wa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All waves have intensity defined in this 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Intensity is proportional to square of wave amplitude (remember energy in oscillator is square of velocity and square of displacemen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EC0C-4738-42FB-AB59-23C37E727D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Human Perception of S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The loudness of a sound depends on its intensity.  A sound perceived as roughly twice as loud as another actually has an intensity that is 10 times grea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We measure loudness by a logarithmic scale of the intensity level of a wave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is dimensionless but we give it a name, decibels (dB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dB is a factor 2 change in int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10dB is a factor 10 change in int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dB is a factor 100 change in int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2778-659A-44DC-8D79-B2A2F84143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21:13:56Z</dcterms:created>
  <dc:creator>Division of Technology</dc:creator>
  <dc:description/>
  <dc:language>en-US</dc:language>
  <cp:lastModifiedBy>DCPS</cp:lastModifiedBy>
  <dcterms:modified xsi:type="dcterms:W3CDTF">2008-02-26T13:04:56Z</dcterms:modified>
  <cp:revision>61</cp:revision>
  <dc:subject/>
  <dc:title>Waves and Sound</dc:title>
</cp:coreProperties>
</file>